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6858000" cy="9144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14BB2-46D5-40F7-A8C4-4DB791768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75B33-22EF-413F-BF0C-549B53ED5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0AE3-C130-40F9-9934-E2D3C62E2A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BD737-BB2B-48E1-A28B-A07161A09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1D6E1-CBDB-4470-A01A-DC7E56A17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9C78-4C69-41CE-AE35-80B402531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C831F-BCCF-483F-9F10-E0667A5748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E2BD5-0B2F-428D-937B-924E9B3B0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295-0660-457E-85D3-2E5460F78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2A6D9-AEB5-430E-A708-CEBE71F0F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6169-34CA-47F4-907C-868667FBD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9C62-A610-44EE-9CCC-B90FE011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D90C6-0D32-492E-A730-C8D39AA3C5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1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image" Target="../media/image11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3.jpeg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4.jpeg"/><Relationship Id="rId3" Type="http://schemas.openxmlformats.org/officeDocument/2006/relationships/image" Target="../media/image14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6.jpeg"/><Relationship Id="rId3" Type="http://schemas.openxmlformats.org/officeDocument/2006/relationships/image" Target="../media/image16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1.jpeg"/><Relationship Id="rId3" Type="http://schemas.openxmlformats.org/officeDocument/2006/relationships/image" Target="../media/image21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4.jpeg"/><Relationship Id="rId3" Type="http://schemas.openxmlformats.org/officeDocument/2006/relationships/image" Target="../media/image24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5.jpeg"/><Relationship Id="rId3" Type="http://schemas.openxmlformats.org/officeDocument/2006/relationships/image" Target="../media/image25.jpeg"/><Relationship Id="rId4" Type="http://schemas.openxmlformats.org/officeDocument/2006/relationships/image" Target="../media/image25.jpeg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6.jpeg"/><Relationship Id="rId3" Type="http://schemas.openxmlformats.org/officeDocument/2006/relationships/image" Target="../media/image26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7.jpeg"/><Relationship Id="rId3" Type="http://schemas.openxmlformats.org/officeDocument/2006/relationships/image" Target="../media/image27.jpeg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6.jpeg"/><Relationship Id="rId3" Type="http://schemas.openxmlformats.org/officeDocument/2006/relationships/image" Target="../media/image6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79680" cy="45720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478320" y="0"/>
            <a:ext cx="3379680" cy="45720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0" y="4572000"/>
            <a:ext cx="3379680" cy="4572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478320" y="4572000"/>
            <a:ext cx="33796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0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0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4"/>
          <a:stretch/>
        </p:blipFill>
        <p:spPr>
          <a:xfrm>
            <a:off x="3429000" y="47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22800" cy="4495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4724280"/>
            <a:ext cx="3097080" cy="41911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760920" y="0"/>
            <a:ext cx="3097080" cy="419112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4"/>
          <a:stretch/>
        </p:blipFill>
        <p:spPr>
          <a:xfrm>
            <a:off x="3760920" y="4952880"/>
            <a:ext cx="30970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3436920" y="47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3513240" y="4648320"/>
            <a:ext cx="3344760" cy="452412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4" name="" descr=""/>
          <p:cNvPicPr/>
          <p:nvPr/>
        </p:nvPicPr>
        <p:blipFill>
          <a:blip r:embed="rId4"/>
          <a:stretch/>
        </p:blipFill>
        <p:spPr>
          <a:xfrm>
            <a:off x="3505320" y="47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17760" cy="44895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0" y="4654440"/>
            <a:ext cx="3317760" cy="44895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3540240" y="4419720"/>
            <a:ext cx="3317760" cy="44892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3429000" y="0"/>
            <a:ext cx="3317760" cy="448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63840" cy="455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4592520"/>
            <a:ext cx="3363840" cy="4551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3494160" y="4592520"/>
            <a:ext cx="3363840" cy="455148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4"/>
          <a:stretch/>
        </p:blipFill>
        <p:spPr>
          <a:xfrm>
            <a:off x="3494160" y="0"/>
            <a:ext cx="3363840" cy="455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342900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4"/>
          <a:stretch/>
        </p:blipFill>
        <p:spPr>
          <a:xfrm>
            <a:off x="3513240" y="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3513240" y="4619520"/>
            <a:ext cx="3344760" cy="452448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3505320" y="47520"/>
            <a:ext cx="3344760" cy="45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7T19:31:34Z</dcterms:created>
  <dc:creator>sfinch</dc:creator>
  <dc:description/>
  <dc:language>en-US</dc:language>
  <cp:lastModifiedBy>sfinch</cp:lastModifiedBy>
  <dcterms:modified xsi:type="dcterms:W3CDTF">2010-09-17T20:28:27Z</dcterms:modified>
  <cp:revision>3</cp:revision>
  <dc:subject/>
  <dc:title>Slide 1</dc:title>
</cp:coreProperties>
</file>